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278F-8F3B-4603-8548-C72C4B9C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E08-B6F5-4A1A-95BA-3B337EF3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2B9DC-0F61-4614-85B3-FF20736D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127E4-125F-4BC7-B06F-8A794C1F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B8103-B6E4-4017-A9B8-B58DA83A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4A170-C018-42AF-AEC1-2E87B77E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371C6-C181-48A3-904D-3E3F67C0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8F4CA-82F9-4F87-B6AD-DBC0F55D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F3A40-A44F-48DB-95E7-AC3513BB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9402B-A84F-4F87-ABC5-0E3AA9F5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EF9E6-E035-48A0-9F30-61E7C155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7BC-15ED-41D7-8EC9-A8A48248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193-5505-4DB1-AD68-BFBBC55D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F2E5-F37B-4FB2-868F-0BBEDB3A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0920-0B8B-4D9D-8CBA-03AC75C8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4F3E-B364-4CDB-B4CC-9E663DEE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CB7A-70FE-42AB-831C-69F36D91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DDC6-7DFA-4E0A-AAF1-C7F0A116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F175-3FC5-4835-A187-FDA336DB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C908-6B87-4361-95C0-FDD3FBAD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8BE-1F78-4385-9DE1-7E0FE439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03F4-2743-4D3C-A683-698DD5AB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3223-5CAD-4E29-9100-B04C7257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C149-C3F3-448A-8B3A-5EDE5508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7738-45EC-4025-8EBE-00B1EB84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F999-8A4E-46B5-AE6C-3A849CBA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CCFE7-D657-451D-BA6F-D11A1367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A188A-3140-4844-A4E1-2EE0B559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35323-1EDD-42F9-8CD2-7D01C176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F861F-A781-4764-99BA-6E92C6A6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0AA60-F93B-44DD-A144-AE1A0FE7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4CE4-7944-46F4-BE74-4DE126C0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55F3-2E6E-46CB-B50C-FAE7577D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28F4D-2C60-4655-8462-66351056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15F4C-0C36-44C9-96CE-7FA4D7D4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8DBD3-B993-4627-9880-43426CBC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BD682-F54A-4237-AE7B-082DD5E4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C67F6-16D2-411B-8F8A-B2FD886F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08F7F-1477-4258-85E0-1FCA73EA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32735-8F93-43F9-8C82-F5146869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F8575-6F0F-456E-90D1-0958CB20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A23F1-FBF8-4922-9501-E65C0974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887-AA4B-492E-B212-ABB0E401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274E9-2ACB-4533-A78C-A8D93A09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AA6A1-F068-411D-B51C-7E2DFF5C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4E7C5-8161-4345-BAA2-3A402625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9DFF9-0A46-41AC-8C35-F9894C49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34EBA-657D-4531-945E-C1A6E993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DDDEA-1E94-4FA9-AA4C-26002397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8EA90-9508-48AE-BFEA-47A7C63E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28DCB-D6F4-4B85-BD45-07D52F9C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C5E45-0E9E-4A7B-B173-2FA62F05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17235-052F-468B-9906-1C5E8439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DF5-8A5F-4E66-9A50-4E328D82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8527C-B42D-41F9-9D2C-C04B4EEA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84C6D-53E0-4545-A8B4-51CB7BAE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735CC-9A3F-4BB1-B3AC-E4960AA6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80EFD-0370-49F9-AFD7-E96D5320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0DF9F-822D-4840-9EDD-9B773E48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001DF-EEF9-4A54-9B78-DB6E24F1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ADF28-4F76-4242-AC9B-265C1A04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9B67B-08BE-4AE7-8972-1626F62F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8390B-9994-46EB-9829-90106004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BAE6F-2695-479E-9EA9-CD7D5E98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358-8811-4AED-9FD7-74E4383F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44C20-92D7-438A-A20D-480B6FF1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486A3-DAC0-4695-A74B-D35164DB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E8F91-7C5B-42C4-A891-BF58623C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DA9B9-8888-4B64-AD5D-336EC946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391A6-FF7D-4BED-B485-16875C04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30FA7-E4B3-4D4A-B85B-DBA369E2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8B9F1-2EE7-407D-8878-22099186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8EDDA-5069-4068-B379-656EF936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7729A-0BA6-4C82-8BFC-080053F9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CD13B-52DA-4A6A-9BA1-000B7785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034-DBC5-49AE-8BAA-F55110B0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C7069-F6B5-4AAB-885C-9A622C45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211E0-3C74-49FB-BB7C-0D7E6D00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B6E43-5C4C-484D-AA9F-86AFC39C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89D47-EFE5-4F17-BA64-757E06D7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DBED9-56DE-40C1-BB6A-27C3D317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B82DD-5E88-49A3-BF3A-5359B9CC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46B55-C33B-4D61-B889-15ACA5C9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F13F2-CE24-4228-8F89-E2826885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B464B-F361-4271-B988-8C4DD938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5B6DB-0DD2-4CA4-9324-20E7A6C8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D1A-CC26-4D06-9DE9-D56A1A38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7BB52-5778-4A4D-8C0B-04A1FCDC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2DEF5-87A3-488D-A39D-F6F74B2B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DFDC2-882C-4990-B4FE-5D4210B2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EEB9B-C23E-4DF2-B948-9D7568E1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A9BE4-E8D2-4CD7-B9C5-2D98F158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B91CB-16FA-45FB-924D-283DE8CD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A12AB-2D51-4B90-ADC0-4C20A592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D0C21-10CF-49FE-BEC6-3C0C9C2F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19CC8-2EC9-4158-B97B-9CD63790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02308-A3B5-4FA2-A640-87614866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A40-9B45-42CA-97B3-5F631E62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BBC0F-DFA7-48FD-A23A-0F6D82A0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825F6-301C-48A1-8696-D67DA1A3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841CE-19D5-4CF7-8A5A-97C362F8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125E4-0B2E-4A01-8176-0D14D277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5860C-0155-4170-9C90-3E4AC144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F8AB8-CFEA-4116-A84E-1432D92C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A79F3-36D1-43C4-96B2-D792109C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32D5A-2D49-46C7-AFF1-1DE36CB7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B6C90-6D28-4847-9943-6DAB06B5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09BB1-4B57-40CB-9DCA-1C0020C0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0828-59A5-43FF-BF94-1B647D49B0E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3EF7-F5B3-4DCE-8545-AB89E017B48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C2E5-E017-4E57-9093-9DB5EC8D2E1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501B-32C2-4145-89E5-FA8AEE46FF4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4C1B-FF0F-41BF-9FA1-B27C7518B53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2AB4-D73A-43F3-9317-490AEE85BF3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A287-9E31-40BF-AF39-4D1BF0418E3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B486-5AFB-4383-B428-E158B42B9C6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5DAE-09B1-4F9B-9C8F-3C68FFE4CA9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lkVYQhSTTE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171360" y="401760"/>
            <a:ext cx="8759880" cy="2457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27640" y="3716280"/>
            <a:ext cx="26114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Автор: учитель биологии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ГБОУ ЦО №1456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Водопьянова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Марина Александровна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4e3b30"/>
                </a:solidFill>
                <a:latin typeface="Franklin Gothic Medium"/>
              </a:rPr>
              <a:t>ПОЧВА</a:t>
            </a:r>
            <a:endParaRPr b="0" lang="en-US" sz="11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4920" y="2492280"/>
            <a:ext cx="8686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e3b30"/>
                </a:solidFill>
                <a:latin typeface="Franklin Gothic Book"/>
              </a:rPr>
              <a:t>это верхний плодородный слой земл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e3b30"/>
                </a:solidFill>
                <a:latin typeface="Franklin Gothic Medium"/>
              </a:rPr>
              <a:t>ТРУДНОСТИ</a:t>
            </a:r>
            <a:endParaRPr b="0" lang="en-US" sz="7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989000"/>
            <a:ext cx="86868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Почва очень плотная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 проникает свет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достаточно кислород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e3b30"/>
                </a:solidFill>
                <a:latin typeface="Franklin Gothic Medium"/>
              </a:rPr>
              <a:t>ПОЛОЖИТЕЛЬНЫЕ СВОЙСТВА</a:t>
            </a:r>
            <a:endParaRPr b="0" lang="en-US" sz="5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Обеспечена водой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Много минеральных и органических веществ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Нет резких колебаний температуры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http://www.youtube.com/watch?v=DlkVYQhST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Franklin Gothic Medium"/>
              </a:rPr>
              <a:t>КРОТ</a:t>
            </a:r>
            <a:endParaRPr b="0" lang="en-US" sz="9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Franklin Gothic Medium"/>
              </a:rPr>
              <a:t>ЛИЧИНКА МАЙСКОГО ЖУКА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Franklin Gothic Medium"/>
              </a:rPr>
              <a:t>МЕДВЕДКА</a:t>
            </a:r>
            <a:endParaRPr b="0" lang="en-US" sz="6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94920" y="1052640"/>
            <a:ext cx="8435880" cy="45259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ПОЧВА НАСЕЛЕНА МНОГОЧИСЛЕННЫМИ ОРГАНИЗМАМИ, КОТОРЫЕ НАХОДЯТСЯ В НЕЙ УСЛОВИЯ, БЛАГОПРИЯТНЫЕ ДЛЯ ЖИЗНИ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beec9"/>
                </a:solidFill>
                <a:latin typeface="Franklin Gothic Medium"/>
              </a:rPr>
              <a:t>КТО ЖИВЕТ В ПОЧВЕ</a:t>
            </a:r>
            <a:endParaRPr b="0" lang="en-US" sz="6600" spc="-1" strike="noStrike">
              <a:solidFill>
                <a:srgbClr val="fbeec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3:25:35Z</dcterms:created>
  <dc:creator>Пользователь</dc:creator>
  <dc:description/>
  <dc:language>en-US</dc:language>
  <cp:lastModifiedBy>Пользователь</cp:lastModifiedBy>
  <dcterms:modified xsi:type="dcterms:W3CDTF">2012-07-18T11:12:28Z</dcterms:modified>
  <cp:revision>14</cp:revision>
  <dc:subject/>
  <dc:title>Слайд 1</dc:title>
</cp:coreProperties>
</file>